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32B-0A60-4AF2-9954-D30E6569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307-3907-41D5-83AC-9BAF9846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0F1-866F-47FE-B799-A37E79EF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233-B31D-429D-851A-76B7944C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792-2AF1-49F1-BBFF-6138120F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CCF-53FD-4194-9F73-AA85514A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117-A466-4AD8-9356-0A2ADA6E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CD7-A8A7-4BDE-BEC4-16B236F7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599-1859-4128-89E7-4F7C232A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A22-0B28-4AC8-8DE9-CFE588A3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6AA-3205-46C8-B3B9-03CA11EE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01C-C077-4B43-8FC1-49CC4469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B59E-D7EA-4E96-8A8F-F904965C7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esignerstencils.com/Merchant2/merchant.mvc?Screen=PROD&amp;Store_Code=DS&amp;Product_Code=685&amp;Category_Code=Bird" TargetMode="External"/><Relationship Id="rId2" Type="http://schemas.openxmlformats.org/officeDocument/2006/relationships/hyperlink" Target="http://www.1001christianclipart.com/powerpoint-backgrounds-2/blue-sky" TargetMode="External"/><Relationship Id="rId3" Type="http://schemas.openxmlformats.org/officeDocument/2006/relationships/hyperlink" Target="http://www.stereoscopy.com/world/index.html" TargetMode="External"/><Relationship Id="rId4" Type="http://schemas.openxmlformats.org/officeDocument/2006/relationships/hyperlink" Target="http://www.wcosf.org/articles/bluebird_article.shtml" TargetMode="External"/><Relationship Id="rId5" Type="http://schemas.openxmlformats.org/officeDocument/2006/relationships/hyperlink" Target="http://www.flickriver.com/photos/jkissnhug/3727011814/" TargetMode="External"/><Relationship Id="rId6" Type="http://schemas.openxmlformats.org/officeDocument/2006/relationships/hyperlink" Target="http://karkanirka.wordpress.com/2010/06/04/tamil_wordlist_17/" TargetMode="External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6ebb"/>
                </a:solidFill>
                <a:latin typeface="Arial"/>
              </a:rPr>
              <a:t>The life of Sammy the swa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d810"/>
                </a:solidFill>
                <a:latin typeface="Arial"/>
              </a:rPr>
              <a:t>Written by Corey and Kel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3168720" cy="196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24360" y="5300640"/>
            <a:ext cx="1584360" cy="792360"/>
          </a:xfrm>
          <a:prstGeom prst="wedgeRoundRectCallout">
            <a:avLst>
              <a:gd name="adj1" fmla="val -91884"/>
              <a:gd name="adj2" fmla="val 89879"/>
              <a:gd name="adj3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ac02"/>
                </a:solidFill>
                <a:latin typeface="Comic Sans MS"/>
              </a:rPr>
              <a:t>Hi I'm Sammy the swall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49360"/>
            <a:ext cx="4680000" cy="1439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member to spot the mini Sammy the swal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each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2852640"/>
            <a:ext cx="2160720" cy="3311640"/>
          </a:xfrm>
          <a:prstGeom prst="wedgeEllipseCallout">
            <a:avLst>
              <a:gd name="adj1" fmla="val 205986"/>
              <a:gd name="adj2" fmla="val -66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w, I’m tired. I’ve been flying for miles and miles so I’m going to rest in the s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3168720" cy="1968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51280" y="3141720"/>
            <a:ext cx="2592360" cy="1079280"/>
          </a:xfrm>
          <a:prstGeom prst="wedgeRectCallout">
            <a:avLst>
              <a:gd name="adj1" fmla="val -46263"/>
              <a:gd name="adj2" fmla="val 78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 I hope you know what my life is like now by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348000" y="1052640"/>
            <a:ext cx="1150920" cy="714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732720" y="4724280"/>
            <a:ext cx="1655640" cy="102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24000" y="692280"/>
            <a:ext cx="86328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187280" y="5300640"/>
            <a:ext cx="1908360" cy="11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 rot="21477600">
            <a:off x="6947640" y="1412280"/>
            <a:ext cx="115272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3471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1,2,3,9&amp;11 Sammy the Swa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esignerstencils.com/Merchant2/merchant.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0606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ge 2&amp;11 blue sk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001christianclipart.com/.../blue-sky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2565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ge 3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tereoscopy.com/world/index.htm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3068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wcosf.org/articles/bluebird_article.shtm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357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lickriver.com/photos/jkissnhug/3727011814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436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karkanirka.wordpress.com/.../tamil_wordlist_17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005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g.lib.umn.edu/.../2009/09/the_birds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644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s.wikimedia.org/wiki/File:Swallows_nest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941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blogs.com/.../07/why_do_stars_twinkle.ph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373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flickr.com/photos/nikonino/4938319703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916360" y="981000"/>
            <a:ext cx="3168360" cy="1968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16720" y="1197000"/>
            <a:ext cx="1584360" cy="3240000"/>
          </a:xfrm>
          <a:prstGeom prst="wedgeEllipseCallout">
            <a:avLst>
              <a:gd name="adj1" fmla="val -45689"/>
              <a:gd name="adj2" fmla="val -4680"/>
            </a:avLst>
          </a:prstGeom>
          <a:gradFill rotWithShape="0">
            <a:gsLst>
              <a:gs pos="0">
                <a:srgbClr val="000000"/>
              </a:gs>
              <a:gs pos="50000">
                <a:srgbClr val="21cf32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c02"/>
                </a:solidFill>
                <a:latin typeface="Comic Sans MS"/>
              </a:rPr>
              <a:t>Hi my name is Sammy the swallow I am going to tell you about my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156000" y="2133720"/>
            <a:ext cx="43164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156360" y="2492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771640" y="4768920"/>
            <a:ext cx="3095640" cy="1539720"/>
          </a:xfrm>
          <a:prstGeom prst="wedgeRoundRectCallout">
            <a:avLst>
              <a:gd name="adj1" fmla="val -34513"/>
              <a:gd name="adj2" fmla="val 64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 live pretty much everywhere!!!!! I live in NZ, Australia, Asia, Europe, Northern America and North Africa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284720" y="3860280"/>
            <a:ext cx="7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96000" y="5013000"/>
            <a:ext cx="1297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96000" y="5660640"/>
            <a:ext cx="2376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692360" y="2492280"/>
            <a:ext cx="15112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066920" y="2707920"/>
            <a:ext cx="1152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08720" y="2997360"/>
            <a:ext cx="79200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356000" y="465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3168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000"/>
            </a:gs>
            <a:gs pos="100000">
              <a:srgbClr val="1890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227640" y="1341360"/>
            <a:ext cx="2374920" cy="503280"/>
          </a:xfrm>
          <a:prstGeom prst="wedgeRoundRectCallout">
            <a:avLst>
              <a:gd name="adj1" fmla="val -18046"/>
              <a:gd name="adj2" fmla="val 4274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me as an eg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066920" y="1773360"/>
            <a:ext cx="216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48360" y="549360"/>
            <a:ext cx="3095640" cy="792000"/>
          </a:xfrm>
          <a:prstGeom prst="wedgeRoundRectCallout">
            <a:avLst>
              <a:gd name="adj1" fmla="val -70666"/>
              <a:gd name="adj2" fmla="val 495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me as a baby. I am called a fledg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11640" y="189000"/>
            <a:ext cx="1873080" cy="1655640"/>
          </a:xfrm>
          <a:prstGeom prst="wedgeRoundRectCallout">
            <a:avLst>
              <a:gd name="adj1" fmla="val -43726"/>
              <a:gd name="adj2" fmla="val 700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’m too young to go flying so I have to stay in the n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32000" y="836640"/>
            <a:ext cx="2665440" cy="1081080"/>
          </a:xfrm>
          <a:prstGeom prst="wedgeRectCallout">
            <a:avLst>
              <a:gd name="adj1" fmla="val -80254"/>
              <a:gd name="adj2" fmla="val 32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 I have straight feathers and I’m fully grow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67280" y="260280"/>
            <a:ext cx="4897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me I’m in a flock with my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876720" y="549360"/>
            <a:ext cx="3589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08000" y="3357720"/>
            <a:ext cx="3168720" cy="1968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56000" y="2852640"/>
            <a:ext cx="2376720" cy="1079640"/>
          </a:xfrm>
          <a:prstGeom prst="wedgeRoundRectCallout">
            <a:avLst>
              <a:gd name="adj1" fmla="val -25685"/>
              <a:gd name="adj2" fmla="val 1335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’m traveling to the sun to get w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1224000" cy="760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236000" y="3429000"/>
            <a:ext cx="1152360" cy="716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435640" y="476280"/>
            <a:ext cx="1079640" cy="669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156360" y="5157720"/>
            <a:ext cx="2124000" cy="1319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50920" y="0"/>
            <a:ext cx="1871640" cy="1162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50920" y="5373720"/>
            <a:ext cx="1873080" cy="1163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7667640" y="1844640"/>
            <a:ext cx="5047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23:36:10Z</dcterms:created>
  <dc:creator>rm1103</dc:creator>
  <dc:description/>
  <dc:language>en-US</dc:language>
  <cp:lastModifiedBy>rm1102</cp:lastModifiedBy>
  <dcterms:modified xsi:type="dcterms:W3CDTF">2010-09-22T00:33:08Z</dcterms:modified>
  <cp:revision>17</cp:revision>
  <dc:subject/>
  <dc:title>The life of Sammy the swallow</dc:title>
</cp:coreProperties>
</file>